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014-5E69-4D22-9AD3-AE0150FE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C13-8136-4C53-9923-204A23E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96F-E066-4B9E-BDB9-46B0B57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847-5F4B-4C5D-A9F7-336F04E8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AE8-6C57-4812-9539-0406C011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074-4343-4642-8E17-6E1D323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498-B827-4422-844A-78EA146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445-9C42-4ACA-A29C-6EC6683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A81-E835-456F-BAA6-9B6632EF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31B-8D53-4EEC-83FD-F754996F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253-53F1-475D-A1C9-6DE0FA1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99F-720C-478D-AF20-0D21564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8AC-6CD0-4774-9927-0BAB16F0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op on a Federated Approach for Improved Use of Environmental Information in China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jing Normal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3-2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Townshend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Hutch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Y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We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going discussions between ESIP Federation (J. Townshend, University of Mary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exploring the suitability of the Federation structure by Chinese Earth scienc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hend, Hutchinson, Yunck and Wertz represented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delegation composed of agency and university representatives, led by Prof. Shi Peijun, Vice President of Beijing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of the US Federation:  its goals, achievements, and why it has been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of the Federation: how it organizes and governs itself and serves its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 of data and services with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issues in improving the delivery of services an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ies of setting up a Chinese Fe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Federation as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and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US activities @ Maryland (Global Land Cover Facility; JPL (GPS Environmental and Earth Science Information System; and Arizona (Arizona Regional Image Archive; Range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hines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effort planned over the next 10 years for many purpo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ully grasp because of number of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rray of research activities underway in a number of agencie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very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 /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will be a major issue – ownership of environmental data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enterprise” model may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on of US system unli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Federation within Chinese context must be clearly defined (i.e., what does it bring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be required to secur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inked to 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patial data infrastructure required to facilitat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 /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hina – US Conference in 200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notes on environmental data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d presentations on overcoming barriers related to: (a) technical issues; (b) infrastructure issues; and (c) data policy and lega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publicatio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 of Chinese satellite remote sensing plans (Townshend le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ing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760" y="2317680"/>
            <a:ext cx="8686800" cy="22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6480" y="491328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quet with Prof. Guanhua Xu, Minister of Science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23:00:18Z</dcterms:created>
  <dc:creator>The Office for Arid Lands Studies</dc:creator>
  <dc:description/>
  <dc:language>en-US</dc:language>
  <cp:lastModifiedBy>The Office for Arid Lands Studies</cp:lastModifiedBy>
  <dcterms:modified xsi:type="dcterms:W3CDTF">2007-01-05T16:36:06Z</dcterms:modified>
  <cp:revision>4</cp:revision>
  <dc:subject/>
  <dc:title>Workshop on a Federated Approach for Improved Use of Environmental Information in China  Beijing Normal University October 23-25, 2006</dc:title>
</cp:coreProperties>
</file>